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EDD0-6CE0-483F-A5A4-7CDADA0D60F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EF1F-DEB3-49A8-A94D-BCBF6DC2991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002E-FABE-489A-AA2E-0ED85EB2001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D014-8E5D-4157-AE8E-52DBD95B0C8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3FEA-EDE4-4C6A-A6C4-04E8DC702E1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B3AF-1CFB-4F10-BE01-38BFE7BBC85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A216-E6E4-4993-B9ED-71F363D804A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69B3-838B-442C-9E07-D9653FF5B96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F449-D54B-43C2-A21D-6C191F6B9FC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45B6-F2FE-4E8B-84B8-57AE64A54CD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0B23-1E5E-43BB-B24E-7647B59A023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6773-2350-4829-A735-1615CD3CAC5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0467-EF5F-4F3B-AB03-84891A542FF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f9f4"/>
                </a:solidFill>
                <a:latin typeface="Arial Unicode MS"/>
                <a:ea typeface="굴림"/>
              </a:rPr>
              <a:t>At that time [1936] I left the question open whether it would be possible to define a quantitative measure of confirmation. Later I introduced the quantitative concept of degree of confirmation or logical probability. I proposed to speak of confirmability instead of verifiability. A sentence is regarded as confirmable if observation sentences can contribute either positively or negatively to its confirmation.</a:t>
            </a:r>
            <a:r>
              <a:rPr b="0" lang="en-GB" sz="1200" spc="-1" strike="noStrike">
                <a:solidFill>
                  <a:srgbClr val="eef9f4"/>
                </a:solidFill>
                <a:latin typeface="Arial"/>
                <a:ea typeface="굴림"/>
              </a:rPr>
              <a:t>’</a:t>
            </a:r>
            <a:r>
              <a:rPr b="0" lang="en-GB" sz="1200" spc="-1" strike="noStrike">
                <a:solidFill>
                  <a:srgbClr val="eef9f4"/>
                </a:solidFill>
                <a:latin typeface="Arial Unicode MS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4FCF-4CFC-4B25-A972-21535F6538E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815E-6B0A-4118-A044-AC91D01F8D6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073B-EAE5-4D5E-8D51-AA4D2423714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D304-BFA2-4431-B9C8-0632D9EDEC2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ADA1-EB69-49E4-8893-6EF186DA0F1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1554-82AC-4FEC-AD1E-F2656B4106F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C488-B7FE-42AF-83D9-D77AF8BB40C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1A06-6981-4B1E-8E49-A85588239AC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4F60-252C-4535-B674-4DCB8A1BEAC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2BFD-5A6C-4B06-B9D3-927AD949F80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EDBF-61F6-40D7-A1E2-3980D484B0A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C6AB-5801-4FB5-ABA9-1989FEBD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24C-6980-4460-B01B-7E8BD786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5CDC-48FA-455D-8DC9-0C7C9CF8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87C-B490-4C8A-AE94-89FC1983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DDB-5323-44B1-BEC2-F721AD7A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C4A2-4EFB-44CE-84CB-43E7A4E0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45E-CB4D-48F3-946C-BEA174E2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85B-A8F3-4766-BBF3-A84B71A1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9D8D-A5AE-45D5-ADE2-08AD3820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0379-8F08-4DB4-9F50-9954192B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680F-AF6C-4CDF-82D6-D13A500A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3DB-E73B-41FB-8346-09BBD228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A7CE-AA0E-4F21-9EE7-31B0DB75C355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귀납주의</a:t>
            </a:r>
            <a:r>
              <a:rPr b="1" lang="en-US" sz="4400" spc="-1" strike="noStrike">
                <a:solidFill>
                  <a:srgbClr val="ffc000"/>
                </a:solidFill>
                <a:latin typeface="Trebuchet MS"/>
              </a:rPr>
              <a:t>(inductivism)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연역 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vs. 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귀납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000"/>
                </a:solidFill>
                <a:latin typeface="Georgia"/>
              </a:rPr>
              <a:t>연역</a:t>
            </a:r>
            <a:r>
              <a:rPr b="1" lang="en-US" sz="2400" spc="-1" strike="noStrike">
                <a:solidFill>
                  <a:srgbClr val="ffc000"/>
                </a:solidFill>
                <a:latin typeface="Georgia"/>
              </a:rPr>
              <a:t>(deduction)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모든 인간은 죽는다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소크라테스는 인간이다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___________________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따라서 소크라테스는 죽는다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논리적으로 타당한 논증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연연 논증은 참을 보존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!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000"/>
                </a:solidFill>
                <a:latin typeface="Georgia"/>
              </a:rPr>
              <a:t>귀납</a:t>
            </a:r>
            <a:r>
              <a:rPr b="1" lang="en-US" sz="2400" spc="-1" strike="noStrike">
                <a:solidFill>
                  <a:srgbClr val="ffc000"/>
                </a:solidFill>
                <a:latin typeface="Georgia"/>
              </a:rPr>
              <a:t>(induction)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1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번 백조는 하얗다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2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번 백조는 하얗다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___________________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따라서 모든 백조는 하얗다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논리적으로 타당하지 않음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귀납 논증은 참 보존 못함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!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귀납의 문제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4581360"/>
            <a:ext cx="77724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귀납은 어떻게 정당화되는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348000" y="476280"/>
            <a:ext cx="2533680" cy="3240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9"/>
          <p:cNvSpPr/>
          <p:nvPr/>
        </p:nvSpPr>
        <p:spPr>
          <a:xfrm>
            <a:off x="6084720" y="476280"/>
            <a:ext cx="25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David Hume, </a:t>
            </a:r>
            <a:r>
              <a:rPr b="0" i="1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Enquiry 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Concerning Human 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Understanding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 (1748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번 선택지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논리학에 호소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364500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다음 두 진술의 참이 어떻게 확인되는지 생각해보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lvl="2" marL="1428840" indent="-514440">
              <a:spcBef>
                <a:spcPts val="649"/>
              </a:spcBef>
              <a:buClr>
                <a:srgbClr val="92d05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92d050"/>
                </a:solidFill>
                <a:latin typeface="Georgia"/>
              </a:rPr>
              <a:t>모든 총각은 결혼하지 않은 사람이다</a:t>
            </a:r>
            <a:r>
              <a:rPr b="0" lang="en-US" sz="2600" spc="-1" strike="noStrike">
                <a:solidFill>
                  <a:srgbClr val="92d05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lvl="2" marL="1428840" indent="-514440">
              <a:spcBef>
                <a:spcPts val="649"/>
              </a:spcBef>
              <a:buClr>
                <a:srgbClr val="92d05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92d050"/>
                </a:solidFill>
                <a:latin typeface="Georgia"/>
              </a:rPr>
              <a:t>모든 금속은 가열하면 팽창한다</a:t>
            </a:r>
            <a:r>
              <a:rPr b="0" lang="en-US" sz="2600" spc="-1" strike="noStrike">
                <a:solidFill>
                  <a:srgbClr val="92d05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1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번 선택지의 문제점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8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000"/>
                </a:solidFill>
                <a:latin typeface="Georgia"/>
              </a:rPr>
              <a:t>모든 총각은 결혼하지 않은 사람이다</a:t>
            </a:r>
            <a:r>
              <a:rPr b="1" lang="en-US" sz="28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23572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선험적으로 알 수 있다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경험하지 않고서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총각이 결혼하지 않은 사람인 것은 논리적으로 필연적이다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진술의 참은 문장 내 용어의 의미에 의해 보장된다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8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000"/>
                </a:solidFill>
                <a:latin typeface="Georgia"/>
              </a:rPr>
              <a:t>모든 금속은 가열하면 팽창한다</a:t>
            </a:r>
            <a:r>
              <a:rPr b="1" lang="en-US" sz="28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4720" y="23572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사후적으로만 알 수 있다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경험 이후에만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금속이 가열하면 팽창하는 것은 논리적으로 필연적이지 않다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b0f0"/>
                </a:solidFill>
                <a:latin typeface="Georgia"/>
              </a:rPr>
              <a:t>진술의 참은 용어의 의미에 의해 보장되지 않는다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70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번 선택지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귀납의 성공에 호소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79280" y="3068280"/>
            <a:ext cx="65149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귀납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번 경우에 성공적이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귀납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번 경우에 성공적이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귀납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번 경우에 성공적이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_______________________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따라서 귀납은 항상 성공적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번 선택지의 문제점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귀납의 성공에 의존하여 귀납을 정당화하는 것은 </a:t>
            </a:r>
            <a:br>
              <a:rPr sz="2600"/>
            </a:br>
            <a:r>
              <a:rPr b="1" lang="ko-KR" sz="3200" spc="-1" strike="noStrike">
                <a:solidFill>
                  <a:srgbClr val="ffc000"/>
                </a:solidFill>
                <a:latin typeface="Georgia"/>
              </a:rPr>
              <a:t>악성 순환 논증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귀납의 다른 사용 방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귀납은 보편 진술을 끌어내는 데 사용되기도 하지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미 고안한 가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법칙을 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정당화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하는 데도 사용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가설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-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연역주의와 검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982240" y="1989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가설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982240" y="3645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예측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513760" y="36561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관찰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3693960" y="2781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연역적 도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211640" y="4005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비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98" name="직선 화살표 연결선 8"/>
          <p:cNvCxnSpPr>
            <a:stCxn id="93" idx="2"/>
            <a:endCxn id="94" idx="0"/>
          </p:cNvCxnSpPr>
          <p:nvPr/>
        </p:nvCxnSpPr>
        <p:spPr>
          <a:xfrm flipH="1">
            <a:off x="3269880" y="2482920"/>
            <a:ext cx="2160" cy="116424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99" name="직선 화살표 연결선 9"/>
          <p:cNvCxnSpPr/>
          <p:nvPr/>
        </p:nvCxnSpPr>
        <p:spPr>
          <a:xfrm>
            <a:off x="3708000" y="3933360"/>
            <a:ext cx="1656360" cy="2520"/>
          </a:xfrm>
          <a:prstGeom prst="straightConnector1">
            <a:avLst/>
          </a:prstGeom>
          <a:ln w="28440">
            <a:solidFill>
              <a:srgbClr val="ffc000"/>
            </a:solidFill>
            <a:prstDash val="sysDash"/>
            <a:miter/>
            <a:headEnd len="med" type="arrow" w="med"/>
            <a:tailEnd len="med" type="arrow" w="med"/>
          </a:ln>
        </p:spPr>
      </p:cxnSp>
      <p:sp>
        <p:nvSpPr>
          <p:cNvPr id="100" name="텍스트 개체 틀 26"/>
          <p:cNvSpPr/>
          <p:nvPr/>
        </p:nvSpPr>
        <p:spPr>
          <a:xfrm>
            <a:off x="722160" y="479736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가설로부터 예측한 현상의 관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=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가설의 검증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  <a:ea typeface="맑은 고딕"/>
              </a:rPr>
              <a:t>충분히 많고 다양한 검증은 가설의 참을 의미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검증은 가설의 참을 보장하는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03280" y="2276280"/>
            <a:ext cx="7283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검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검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검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______________________________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따라서 가설은 검증되었으며 따라서 참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학은 사실에 기초해 있다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에 대한 상식적인 생각이자 귀납주의의 기초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05264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확률로의 후퇴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141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en-GB" sz="2600" spc="-1" strike="noStrike">
                <a:solidFill>
                  <a:srgbClr val="ffc000"/>
                </a:solidFill>
                <a:latin typeface="Georgia"/>
              </a:rPr>
              <a:t>Hypotheses […] can never be completely verified by observational evidence. Therefore I suggested that we should abandon the concept of verification and say instead that the hypothesis is more or less confirmed or disconfirmed by the evidence.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b0f0"/>
                </a:solidFill>
                <a:latin typeface="Georgia"/>
              </a:rPr>
              <a:t>-- Rudolf Carnap, “Intellectual Autobiography”, in P. A. Schilpp, </a:t>
            </a:r>
            <a:r>
              <a:rPr b="0" i="1" lang="en-GB" sz="2100" spc="-1" strike="noStrike">
                <a:solidFill>
                  <a:srgbClr val="00b0f0"/>
                </a:solidFill>
                <a:latin typeface="Georgia"/>
              </a:rPr>
              <a:t>The Philosophy of Rudolf Carnap</a:t>
            </a:r>
            <a:r>
              <a:rPr b="0" lang="en-GB" sz="2100" spc="-1" strike="noStrike">
                <a:solidFill>
                  <a:srgbClr val="00b0f0"/>
                </a:solidFill>
                <a:latin typeface="Georgia"/>
              </a:rPr>
              <a:t>, Open Court, 1963, p. 59.</a:t>
            </a:r>
            <a:endParaRPr b="0" lang="en-US" sz="21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3708360" y="0"/>
            <a:ext cx="18716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가설의 개연적 참과 입증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08000" y="1700280"/>
            <a:ext cx="6778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입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입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3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의해 가설이 입증되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________________________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따라서 가설은 입증되었으며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따라서 아마도 참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그러나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유한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수의 입증에 기초하여</a:t>
            </a:r>
            <a:br>
              <a:rPr sz="2600"/>
            </a:b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보편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진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어떤 확률값을 부여해야 할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다음주 토론용 읽을거리와 질문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c000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F. </a:t>
            </a:r>
            <a:r>
              <a:rPr b="0" lang="ko-KR" sz="3000" spc="-1" strike="noStrike">
                <a:solidFill>
                  <a:srgbClr val="ffc000"/>
                </a:solidFill>
                <a:latin typeface="Georgia"/>
              </a:rPr>
              <a:t>차머스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3000" spc="-1" strike="noStrike">
                <a:solidFill>
                  <a:srgbClr val="ffc000"/>
                </a:solidFill>
                <a:latin typeface="Georgia"/>
              </a:rPr>
              <a:t>과학이란 무엇인가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?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》 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4</a:t>
            </a:r>
            <a:r>
              <a:rPr b="0" lang="ko-KR" sz="3000" spc="-1" strike="noStrike">
                <a:solidFill>
                  <a:srgbClr val="ffc000"/>
                </a:solidFill>
                <a:latin typeface="Georgia"/>
              </a:rPr>
              <a:t>장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c000"/>
                </a:solidFill>
                <a:latin typeface="Georgia"/>
              </a:rPr>
              <a:t>칼 포퍼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3000" spc="-1" strike="noStrike">
                <a:solidFill>
                  <a:srgbClr val="ffc000"/>
                </a:solidFill>
                <a:latin typeface="Georgia"/>
              </a:rPr>
              <a:t>과학적 발견의 논리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》 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3000" spc="-1" strike="noStrike">
                <a:solidFill>
                  <a:srgbClr val="ffc000"/>
                </a:solidFill>
                <a:latin typeface="Georgia"/>
              </a:rPr>
              <a:t>장의 일부</a:t>
            </a:r>
            <a:r>
              <a:rPr b="0" lang="en-US" sz="30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b0f0"/>
                </a:solidFill>
                <a:latin typeface="Georgia"/>
              </a:rPr>
              <a:t>좋은 귀납 논증의 특징은 무엇인가</a:t>
            </a:r>
            <a:r>
              <a:rPr b="0" lang="en-US" sz="3000" spc="-1" strike="noStrike">
                <a:solidFill>
                  <a:srgbClr val="00b0f0"/>
                </a:solidFill>
                <a:latin typeface="Georgia"/>
              </a:rPr>
              <a:t>?</a:t>
            </a: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b0f0"/>
                </a:solidFill>
                <a:latin typeface="Georgia"/>
              </a:rPr>
              <a:t>귀납의 문제란 무엇인가</a:t>
            </a:r>
            <a:r>
              <a:rPr b="0" lang="en-US" sz="3000" spc="-1" strike="noStrike">
                <a:solidFill>
                  <a:srgbClr val="00b0f0"/>
                </a:solidFill>
                <a:latin typeface="Georgia"/>
              </a:rPr>
              <a:t>? </a:t>
            </a:r>
            <a:r>
              <a:rPr b="0" lang="ko-KR" sz="3000" spc="-1" strike="noStrike">
                <a:solidFill>
                  <a:srgbClr val="00b0f0"/>
                </a:solidFill>
                <a:latin typeface="Georgia"/>
              </a:rPr>
              <a:t>본인이 생각하기에 그 문제는 얼마나 심각한가</a:t>
            </a:r>
            <a:r>
              <a:rPr b="0" lang="en-US" sz="3000" spc="-1" strike="noStrike">
                <a:solidFill>
                  <a:srgbClr val="00b0f0"/>
                </a:solidFill>
                <a:latin typeface="Georgia"/>
              </a:rPr>
              <a:t>?</a:t>
            </a: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b0f0"/>
                </a:solidFill>
                <a:latin typeface="Georgia"/>
              </a:rPr>
              <a:t>귀납원리를 정당화하려는 시도가 </a:t>
            </a:r>
            <a:r>
              <a:rPr b="0" lang="en-US" sz="3000" spc="-1" strike="noStrike">
                <a:solidFill>
                  <a:srgbClr val="00b0f0"/>
                </a:solidFill>
                <a:latin typeface="Georgia"/>
              </a:rPr>
              <a:t>‘</a:t>
            </a:r>
            <a:r>
              <a:rPr b="0" lang="ko-KR" sz="3000" spc="-1" strike="noStrike">
                <a:solidFill>
                  <a:srgbClr val="00b0f0"/>
                </a:solidFill>
                <a:latin typeface="Georgia"/>
              </a:rPr>
              <a:t>무한 후퇴</a:t>
            </a:r>
            <a:r>
              <a:rPr b="0" lang="en-US" sz="3000" spc="-1" strike="noStrike">
                <a:solidFill>
                  <a:srgbClr val="00b0f0"/>
                </a:solidFill>
                <a:latin typeface="Georgia"/>
              </a:rPr>
              <a:t>’</a:t>
            </a:r>
            <a:r>
              <a:rPr b="0" lang="ko-KR" sz="3000" spc="-1" strike="noStrike">
                <a:solidFill>
                  <a:srgbClr val="00b0f0"/>
                </a:solidFill>
                <a:latin typeface="Georgia"/>
              </a:rPr>
              <a:t>에 빠지게 된다는 포퍼의 말은 무슨 뜻인가</a:t>
            </a:r>
            <a:r>
              <a:rPr b="0" lang="en-US" sz="3000" spc="-1" strike="noStrike">
                <a:solidFill>
                  <a:srgbClr val="00b0f0"/>
                </a:solidFill>
                <a:latin typeface="Georgia"/>
              </a:rPr>
              <a:t>? </a:t>
            </a:r>
            <a:r>
              <a:rPr b="0" lang="ko-KR" sz="3000" spc="-1" strike="noStrike">
                <a:solidFill>
                  <a:srgbClr val="00b0f0"/>
                </a:solidFill>
                <a:latin typeface="Georgia"/>
              </a:rPr>
              <a:t>왜 그것이 문제가 될까</a:t>
            </a:r>
            <a:r>
              <a:rPr b="0" lang="en-US" sz="3000" spc="-1" strike="noStrike">
                <a:solidFill>
                  <a:srgbClr val="00b0f0"/>
                </a:solidFill>
                <a:latin typeface="Georgia"/>
              </a:rPr>
              <a:t>?</a:t>
            </a: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귀납주의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inductivism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적 지식이 관찰 가능한 사실로부터 얻어진다는 철학적 견해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6280"/>
            <a:ext cx="822960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귀납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(induction)</a:t>
            </a: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이란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관찰 가능한 사실로부터 끌어내는 추론의 일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단칭 관찰 진술로부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관련 현상에 관한 일반적 결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보편 진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법칙 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을 이끌어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귀납 추론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관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1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번 백조는 하얗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1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단칭 관찰 진술</a:t>
            </a:r>
            <a:r>
              <a:rPr b="1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          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번 백조는 하얗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          3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번 백조는 하얗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          ….</a:t>
            </a:r>
            <a:br>
              <a:rPr sz="2600"/>
            </a:b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          _________________________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결론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모든 백조는 하얗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1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보편 진술</a:t>
            </a:r>
            <a:r>
              <a:rPr b="1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법칙</a:t>
            </a:r>
            <a:r>
              <a:rPr b="1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가설</a:t>
            </a:r>
            <a:r>
              <a:rPr b="1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1152360" cy="865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5992920" y="3267000"/>
            <a:ext cx="118260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단칭 진술과 보편 진술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2276280"/>
            <a:ext cx="4259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단칭 진술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특정한 시간과 장소에서 이루어진 특정한 관찰을 가리킴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보편 진술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시간과 장소를 가리지 않는 모든 경우를 가리킴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932360" y="242100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1267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좋은 귀납 추론의 조건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2392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많은 수의 관찰이 이루어져야 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2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관찰은 다양한 조건에서 반복되어야 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3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어떠한 관찰 진술도 그것으로부터 이끌어낸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보편 진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법칙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 충돌해서는 안 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2160" y="16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귀납 원리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2160" y="335736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만약 많은 수의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A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 다양한 조건에서 관찰되었고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또한 그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A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들이 모두 속성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B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를 가지고 있다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모든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A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는 속성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B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를 가진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242100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문제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4508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귀납은 그로부터 이끌어낸 보편 진술의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참을 보장해주지 못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69" name="Picture 11" descr="C:\Users\Grant\MYWORKS\TEACHING\KAIST\COURSES\PHILO-SCI\Images\685px-Black_Swans.jpg"/>
          <p:cNvPicPr/>
          <p:nvPr/>
        </p:nvPicPr>
        <p:blipFill>
          <a:blip r:embed="rId1"/>
          <a:stretch/>
        </p:blipFill>
        <p:spPr>
          <a:xfrm>
            <a:off x="2792520" y="333360"/>
            <a:ext cx="379548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31:40Z</dcterms:created>
  <dc:creator>zolaist</dc:creator>
  <dc:description/>
  <dc:language>en-US</dc:language>
  <cp:lastModifiedBy>zolaist</cp:lastModifiedBy>
  <dcterms:modified xsi:type="dcterms:W3CDTF">2011-04-06T03:17:45Z</dcterms:modified>
  <cp:revision>19</cp:revision>
  <dc:subject/>
  <dc:title>슬라이드 1</dc:title>
</cp:coreProperties>
</file>